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350-E17D-4E38-9560-0FB7122E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435-F4A1-4109-B5C5-3296AEA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730-49F5-4907-8D70-927C1B2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DB-AE23-44E7-AED2-447F152D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989-2FBC-4878-8E8A-4FD7AF0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91E-71EA-4BC8-BC22-F7219342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294-6F77-4CFC-82B2-D2DFE354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015-7AC6-4DD7-A86C-82D220D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A10-CE38-4126-86C6-E5418B09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CAC-B3D9-4FFE-8443-98143A6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7FC-E9A5-4488-96BB-CD50E430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B18-9297-4E6E-A5A9-F25DCC0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2DA27-7C81-40B8-A9B8-3959ADD7F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 VALID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Operator Perguru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680"/>
            <a:ext cx="907092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Administrasi, lalu klik pada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          untuk melihat daftar karyasiswa yang mengajukan perpanjanga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5320" y="1511280"/>
            <a:ext cx="8156520" cy="31510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68640" y="5761080"/>
            <a:ext cx="77148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4936680"/>
            <a:ext cx="907092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status perpanjangan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jut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folder untuk melihat detail usu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20960" y="1555920"/>
            <a:ext cx="6492960" cy="31492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 VALIDASI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a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pilih stat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 Pengelol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kan catatan apabila perlu, lalu kli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hatian. </a:t>
            </a:r>
            <a:r>
              <a:rPr b="1" lang="en-US" sz="3200" spc="-1" strike="noStrike">
                <a:solidFill>
                  <a:srgbClr val="ff3333"/>
                </a:solidFill>
                <a:latin typeface="Arial"/>
              </a:rPr>
              <a:t>Data yang tidak lengkap/tidak memenuhi syarat tidak boleh divalid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81240" y="1371600"/>
            <a:ext cx="5683320" cy="30178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36:33Z</dcterms:modified>
  <cp:revision>16</cp:revision>
  <dc:subject/>
  <dc:title/>
</cp:coreProperties>
</file>