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79D7-7E38-4EDE-8BA3-D2E5C779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ED3F-FFC4-40F1-B4D6-D2192829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513-CD13-475C-A592-DD654ECF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C0A-FF10-444F-A4FD-29D251B0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BFA-891D-4B75-B5E4-7FE7BE35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918-8BCC-4AD1-8B25-CD2A5719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79A-A0BC-47B7-9B73-CA9FE5DC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684-76EF-4752-84EC-E4AB7036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5D5B-773E-4841-BDAD-1664C1B6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83DC-3A36-487E-9089-D4018EB0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B09B-9D22-40CA-93D0-B6A9DB14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A3A-4093-4D2E-8816-ED109B7F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C5E41-67EA-4DA6-8B1E-40F8351368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tudi.dikti.go.id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0" y="1463760"/>
            <a:ext cx="1014588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ND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PANJANGAN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tuk Karyasis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12800" y="5761080"/>
            <a:ext cx="907272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n k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tudi.dikti.go.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nggunakan akun Anda masing-m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68800" y="1646280"/>
            <a:ext cx="340668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4846320"/>
            <a:ext cx="907092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82000"/>
          </a:bodyPr>
          <a:p>
            <a:pPr marL="353880" indent="-265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ih grup men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si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lu klik pada men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panjangan Stu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65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 tombo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jukan Perpanjangan Stu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19280" y="2286000"/>
            <a:ext cx="8974080" cy="196524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9000" y="3657240"/>
            <a:ext cx="90709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83000"/>
          </a:bodyPr>
          <a:p>
            <a:pPr marL="358200" indent="-268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pilan selanjutnya bergantung p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6760" indent="-2689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tersediaan periode perpanjangan yang ditawarkan oleh Dik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6760" indent="-2689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kumen publikasi harus ada (khusus untuk beasiswa D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200" indent="-268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pilan di atas adalah apabila Anda memenuhi syarat perpanjangan stu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200" indent="-268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 tombo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jukan Perpanjangan Stud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uk konfirmasi pendaftaran A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2360" y="1563840"/>
            <a:ext cx="9051840" cy="182880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4479840"/>
            <a:ext cx="90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bila berhasil, tampilan akan seperti gambar di a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 gambar folder di dalam kolom aksi untuk mengupload dokumen tambahan yang diminta Dik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46040" y="1755720"/>
            <a:ext cx="7523280" cy="208440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9360" y="5459040"/>
            <a:ext cx="90709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akan upload dokumen untuk masing-masing jenis dokumen yang dimi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11200" y="1428840"/>
            <a:ext cx="7732800" cy="360036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elah semua dokumen yang dibutuhkan ter-upload, kembali ke menu perpanjangan stu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 tombol bergambar panah (di samping tombol folder). Ini berfungsi untuk mengubah status perpanjangan Anda dar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f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juk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2240" y="5029200"/>
            <a:ext cx="8961480" cy="73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2240" y="4846680"/>
            <a:ext cx="2193840" cy="1189080"/>
          </a:xfrm>
          <a:prstGeom prst="ellipse">
            <a:avLst/>
          </a:pr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ka tampilan sudah sama seperti di bawah ini, proses pengajuan Anda telah selesai. Tunggu proses validasi lebih lanj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hatikan bahwa status ajuan menjadi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juk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12920" y="4749840"/>
            <a:ext cx="9462960" cy="644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80240" y="4389480"/>
            <a:ext cx="2193840" cy="1189080"/>
          </a:xfrm>
          <a:prstGeom prst="ellipse">
            <a:avLst/>
          </a:pr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8T00:21:36Z</dcterms:created>
  <dc:creator/>
  <dc:description/>
  <dc:language>en-US</dc:language>
  <cp:lastModifiedBy/>
  <dcterms:modified xsi:type="dcterms:W3CDTF">2015-06-26T16:01:43Z</dcterms:modified>
  <cp:revision>12</cp:revision>
  <dc:subject/>
  <dc:title/>
</cp:coreProperties>
</file>